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64334918448069"/>
          <c:y val="0.0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3"/>
          <c:w val="0.959957335229545"/>
          <c:h val="0.85612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9</c:v>
                </c:pt>
                <c:pt idx="2">
                  <c:v>9</c:v>
                </c:pt>
                <c:pt idx="3">
                  <c:v>0</c:v>
                </c:pt>
                <c:pt idx="4">
                  <c:v>2</c:v>
                </c:pt>
                <c:pt idx="5">
                  <c:v>2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41538461538462</c:v>
                </c:pt>
                <c:pt idx="1">
                  <c:v>3.36410256410256</c:v>
                </c:pt>
                <c:pt idx="2">
                  <c:v>9.46153846153846</c:v>
                </c:pt>
                <c:pt idx="3">
                  <c:v>8.83076923076923</c:v>
                </c:pt>
                <c:pt idx="4">
                  <c:v>3.99487179487179</c:v>
                </c:pt>
                <c:pt idx="5">
                  <c:v>3.99487179487179</c:v>
                </c:pt>
                <c:pt idx="6">
                  <c:v>1.26153846153846</c:v>
                </c:pt>
                <c:pt idx="7">
                  <c:v>3.99487179487179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630769230769231</c:v>
                </c:pt>
                <c:pt idx="15">
                  <c:v>1.05128205128205</c:v>
                </c:pt>
              </c:numCache>
            </c:numRef>
          </c:val>
        </c:ser>
        <c:gapWidth val="100"/>
        <c:overlap val="0"/>
        <c:axId val="29367585"/>
        <c:axId val="62728604"/>
      </c:barChart>
      <c:catAx>
        <c:axId val="2936758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28604"/>
        <c:crossesAt val="0"/>
        <c:auto val="1"/>
        <c:lblAlgn val="ctr"/>
        <c:lblOffset val="100"/>
        <c:noMultiLvlLbl val="0"/>
      </c:catAx>
      <c:valAx>
        <c:axId val="62728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6758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4706457490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4</c:v>
                </c:pt>
                <c:pt idx="2">
                  <c:v>12</c:v>
                </c:pt>
                <c:pt idx="3">
                  <c:v>1</c:v>
                </c:pt>
                <c:pt idx="4">
                  <c:v>1</c:v>
                </c:pt>
                <c:pt idx="5">
                  <c:v>3</c:v>
                </c:pt>
                <c:pt idx="6">
                  <c:v>3</c:v>
                </c:pt>
                <c:pt idx="7">
                  <c:v>2</c:v>
                </c:pt>
                <c:pt idx="8">
                  <c:v>3</c:v>
                </c:pt>
                <c:pt idx="9">
                  <c:v>7</c:v>
                </c:pt>
                <c:pt idx="10">
                  <c:v>7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45833333333333</c:v>
                </c:pt>
                <c:pt idx="1">
                  <c:v>2.45833333333333</c:v>
                </c:pt>
                <c:pt idx="2">
                  <c:v>9.83333333333333</c:v>
                </c:pt>
                <c:pt idx="3">
                  <c:v>8.60416666666667</c:v>
                </c:pt>
                <c:pt idx="4">
                  <c:v>6.14583333333333</c:v>
                </c:pt>
                <c:pt idx="5">
                  <c:v>6.14583333333333</c:v>
                </c:pt>
                <c:pt idx="6">
                  <c:v>6.14583333333333</c:v>
                </c:pt>
                <c:pt idx="7">
                  <c:v>3.6875</c:v>
                </c:pt>
                <c:pt idx="8">
                  <c:v>2.45833333333333</c:v>
                </c:pt>
                <c:pt idx="9">
                  <c:v>3.38020833333333</c:v>
                </c:pt>
                <c:pt idx="10">
                  <c:v>2.765625</c:v>
                </c:pt>
                <c:pt idx="11">
                  <c:v>2.45833333333333</c:v>
                </c:pt>
                <c:pt idx="12">
                  <c:v>1.22916666666667</c:v>
                </c:pt>
                <c:pt idx="13">
                  <c:v>1.22916666666667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4885432"/>
        <c:axId val="74840864"/>
      </c:barChart>
      <c:catAx>
        <c:axId val="6488543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40864"/>
        <c:crossesAt val="0"/>
        <c:auto val="1"/>
        <c:lblAlgn val="ctr"/>
        <c:lblOffset val="100"/>
        <c:noMultiLvlLbl val="0"/>
      </c:catAx>
      <c:valAx>
        <c:axId val="74840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8543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9150704413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1</c:v>
                </c:pt>
                <c:pt idx="2">
                  <c:v>12</c:v>
                </c:pt>
                <c:pt idx="3">
                  <c:v>2</c:v>
                </c:pt>
                <c:pt idx="4">
                  <c:v>4</c:v>
                </c:pt>
                <c:pt idx="5">
                  <c:v>2</c:v>
                </c:pt>
                <c:pt idx="6">
                  <c:v>0</c:v>
                </c:pt>
                <c:pt idx="7">
                  <c:v>4</c:v>
                </c:pt>
                <c:pt idx="8">
                  <c:v>2</c:v>
                </c:pt>
                <c:pt idx="9">
                  <c:v>6</c:v>
                </c:pt>
                <c:pt idx="10">
                  <c:v>5</c:v>
                </c:pt>
                <c:pt idx="11">
                  <c:v>3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33333333333333</c:v>
                </c:pt>
                <c:pt idx="1">
                  <c:v>2.33333333333333</c:v>
                </c:pt>
                <c:pt idx="2">
                  <c:v>9.33333333333333</c:v>
                </c:pt>
                <c:pt idx="3">
                  <c:v>8.16666666666667</c:v>
                </c:pt>
                <c:pt idx="4">
                  <c:v>5.83333333333333</c:v>
                </c:pt>
                <c:pt idx="5">
                  <c:v>5.83333333333333</c:v>
                </c:pt>
                <c:pt idx="6">
                  <c:v>5.83333333333333</c:v>
                </c:pt>
                <c:pt idx="7">
                  <c:v>3.5</c:v>
                </c:pt>
                <c:pt idx="8">
                  <c:v>2.33333333333333</c:v>
                </c:pt>
                <c:pt idx="9">
                  <c:v>3.20833333333333</c:v>
                </c:pt>
                <c:pt idx="10">
                  <c:v>2.625</c:v>
                </c:pt>
                <c:pt idx="11">
                  <c:v>2.33333333333333</c:v>
                </c:pt>
                <c:pt idx="12">
                  <c:v>1.16666666666667</c:v>
                </c:pt>
                <c:pt idx="13">
                  <c:v>1.16666666666667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1430928"/>
        <c:axId val="27986300"/>
      </c:barChart>
      <c:catAx>
        <c:axId val="143092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86300"/>
        <c:crossesAt val="0"/>
        <c:auto val="1"/>
        <c:lblAlgn val="ctr"/>
        <c:lblOffset val="100"/>
        <c:noMultiLvlLbl val="0"/>
      </c:catAx>
      <c:valAx>
        <c:axId val="27986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092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2" spc="-1" strike="noStrike">
                <a:solidFill>
                  <a:srgbClr val="000000"/>
                </a:solidFill>
                <a:latin typeface="Arial"/>
              </a:defRPr>
            </a:pPr>
            <a:r>
              <a:rPr b="1" sz="1492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135949513355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305425943208"/>
          <c:w val="0.959957335229545"/>
          <c:h val="0.76989734702039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  <c:pt idx="4">
                  <c:v>2</c:v>
                </c:pt>
                <c:pt idx="5">
                  <c:v>0</c:v>
                </c:pt>
                <c:pt idx="6">
                  <c:v>3</c:v>
                </c:pt>
                <c:pt idx="7">
                  <c:v>3</c:v>
                </c:pt>
                <c:pt idx="8">
                  <c:v>4</c:v>
                </c:pt>
                <c:pt idx="9">
                  <c:v>5</c:v>
                </c:pt>
                <c:pt idx="10">
                  <c:v>7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79166666666667</c:v>
                </c:pt>
                <c:pt idx="1">
                  <c:v>1.79166666666667</c:v>
                </c:pt>
                <c:pt idx="2">
                  <c:v>7.16666666666667</c:v>
                </c:pt>
                <c:pt idx="3">
                  <c:v>6.27083333333333</c:v>
                </c:pt>
                <c:pt idx="4">
                  <c:v>4.47916666666667</c:v>
                </c:pt>
                <c:pt idx="5">
                  <c:v>4.47916666666667</c:v>
                </c:pt>
                <c:pt idx="6">
                  <c:v>4.47916666666667</c:v>
                </c:pt>
                <c:pt idx="7">
                  <c:v>2.6875</c:v>
                </c:pt>
                <c:pt idx="8">
                  <c:v>1.79166666666667</c:v>
                </c:pt>
                <c:pt idx="9">
                  <c:v>2.46354166666667</c:v>
                </c:pt>
                <c:pt idx="10">
                  <c:v>2.015625</c:v>
                </c:pt>
                <c:pt idx="11">
                  <c:v>1.79166666666667</c:v>
                </c:pt>
                <c:pt idx="12">
                  <c:v>0.895833333333333</c:v>
                </c:pt>
                <c:pt idx="13">
                  <c:v>0.895833333333333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2682703"/>
        <c:axId val="46277873"/>
      </c:barChart>
      <c:catAx>
        <c:axId val="6268270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77873"/>
        <c:crossesAt val="0"/>
        <c:auto val="1"/>
        <c:lblAlgn val="ctr"/>
        <c:lblOffset val="100"/>
        <c:noMultiLvlLbl val="0"/>
      </c:catAx>
      <c:valAx>
        <c:axId val="46277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8270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EEJGL MATUTINO</a:t>
            </a:r>
          </a:p>
        </c:rich>
      </c:tx>
      <c:layout>
        <c:manualLayout>
          <c:xMode val="edge"/>
          <c:yMode val="edge"/>
          <c:x val="0.39597998848895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29645371231"/>
          <c:y val="0.209223847019123"/>
          <c:w val="0.959976977907646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1</c:v>
                </c:pt>
                <c:pt idx="2">
                  <c:v>7</c:v>
                </c:pt>
                <c:pt idx="3">
                  <c:v>7</c:v>
                </c:pt>
                <c:pt idx="4">
                  <c:v>6</c:v>
                </c:pt>
                <c:pt idx="5">
                  <c:v>3</c:v>
                </c:pt>
                <c:pt idx="6">
                  <c:v>5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70769230769231</c:v>
                </c:pt>
                <c:pt idx="1">
                  <c:v>4.34871794871795</c:v>
                </c:pt>
                <c:pt idx="2">
                  <c:v>12.2307692307692</c:v>
                </c:pt>
                <c:pt idx="3">
                  <c:v>11.4153846153846</c:v>
                </c:pt>
                <c:pt idx="4">
                  <c:v>5.16410256410256</c:v>
                </c:pt>
                <c:pt idx="5">
                  <c:v>5.16410256410256</c:v>
                </c:pt>
                <c:pt idx="6">
                  <c:v>1.63076923076923</c:v>
                </c:pt>
                <c:pt idx="7">
                  <c:v>5.1641025641025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815384615384615</c:v>
                </c:pt>
                <c:pt idx="15">
                  <c:v>1.35897435897436</c:v>
                </c:pt>
              </c:numCache>
            </c:numRef>
          </c:val>
        </c:ser>
        <c:gapWidth val="100"/>
        <c:overlap val="0"/>
        <c:axId val="33393474"/>
        <c:axId val="39992717"/>
      </c:barChart>
      <c:catAx>
        <c:axId val="333934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92717"/>
        <c:crossesAt val="0"/>
        <c:auto val="1"/>
        <c:lblAlgn val="ctr"/>
        <c:lblOffset val="100"/>
        <c:noMultiLvlLbl val="0"/>
      </c:catAx>
      <c:valAx>
        <c:axId val="39992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9347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EEJGL MATUTINO</a:t>
            </a:r>
          </a:p>
        </c:rich>
      </c:tx>
      <c:layout>
        <c:manualLayout>
          <c:xMode val="edge"/>
          <c:yMode val="edge"/>
          <c:x val="0.39602684325141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9</c:v>
                </c:pt>
                <c:pt idx="2">
                  <c:v>10</c:v>
                </c:pt>
                <c:pt idx="3">
                  <c:v>8</c:v>
                </c:pt>
                <c:pt idx="4">
                  <c:v>4</c:v>
                </c:pt>
                <c:pt idx="5">
                  <c:v>4</c:v>
                </c:pt>
                <c:pt idx="6">
                  <c:v>1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6153846153846</c:v>
                </c:pt>
                <c:pt idx="1">
                  <c:v>4.92307692307692</c:v>
                </c:pt>
                <c:pt idx="2">
                  <c:v>13.8461538461538</c:v>
                </c:pt>
                <c:pt idx="3">
                  <c:v>12.9230769230769</c:v>
                </c:pt>
                <c:pt idx="4">
                  <c:v>5.84615384615385</c:v>
                </c:pt>
                <c:pt idx="5">
                  <c:v>5.84615384615385</c:v>
                </c:pt>
                <c:pt idx="6">
                  <c:v>1.84615384615385</c:v>
                </c:pt>
                <c:pt idx="7">
                  <c:v>5.8461538461538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923076923076923</c:v>
                </c:pt>
                <c:pt idx="15">
                  <c:v>1.53846153846154</c:v>
                </c:pt>
              </c:numCache>
            </c:numRef>
          </c:val>
        </c:ser>
        <c:gapWidth val="100"/>
        <c:overlap val="0"/>
        <c:axId val="80326935"/>
        <c:axId val="90157787"/>
      </c:barChart>
      <c:catAx>
        <c:axId val="8032693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57787"/>
        <c:crossesAt val="0"/>
        <c:auto val="1"/>
        <c:lblAlgn val="ctr"/>
        <c:lblOffset val="100"/>
        <c:noMultiLvlLbl val="0"/>
      </c:catAx>
      <c:valAx>
        <c:axId val="90157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2693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2" spc="-1" strike="noStrike">
                <a:solidFill>
                  <a:srgbClr val="000000"/>
                </a:solidFill>
                <a:latin typeface="Arial"/>
              </a:defRPr>
            </a:pPr>
            <a:r>
              <a:rPr b="1" sz="1492" spc="-1" strike="noStrike">
                <a:solidFill>
                  <a:srgbClr val="000000"/>
                </a:solidFill>
                <a:latin typeface="Arial"/>
              </a:rPr>
              <a:t>EEJGL MATUTINO</a:t>
            </a:r>
          </a:p>
        </c:rich>
      </c:tx>
      <c:layout>
        <c:manualLayout>
          <c:xMode val="edge"/>
          <c:yMode val="edge"/>
          <c:x val="0.396115728189858"/>
          <c:y val="0.020130649246767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305425943208"/>
          <c:w val="0.959957335229545"/>
          <c:h val="0.76989734702039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7</c:v>
                </c:pt>
                <c:pt idx="2">
                  <c:v>14</c:v>
                </c:pt>
                <c:pt idx="3">
                  <c:v>7</c:v>
                </c:pt>
                <c:pt idx="4">
                  <c:v>2</c:v>
                </c:pt>
                <c:pt idx="5">
                  <c:v>1</c:v>
                </c:pt>
                <c:pt idx="6">
                  <c:v>0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06153846153846</c:v>
                </c:pt>
                <c:pt idx="1">
                  <c:v>3.85641025641026</c:v>
                </c:pt>
                <c:pt idx="2">
                  <c:v>10.8461538461538</c:v>
                </c:pt>
                <c:pt idx="3">
                  <c:v>10.1230769230769</c:v>
                </c:pt>
                <c:pt idx="4">
                  <c:v>4.57948717948718</c:v>
                </c:pt>
                <c:pt idx="5">
                  <c:v>4.57948717948718</c:v>
                </c:pt>
                <c:pt idx="6">
                  <c:v>1.44615384615385</c:v>
                </c:pt>
                <c:pt idx="7">
                  <c:v>4.57948717948718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723076923076923</c:v>
                </c:pt>
                <c:pt idx="15">
                  <c:v>1.20512820512821</c:v>
                </c:pt>
              </c:numCache>
            </c:numRef>
          </c:val>
        </c:ser>
        <c:gapWidth val="100"/>
        <c:overlap val="0"/>
        <c:axId val="87448364"/>
        <c:axId val="52424991"/>
      </c:barChart>
      <c:catAx>
        <c:axId val="8744836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24991"/>
        <c:crossesAt val="0"/>
        <c:auto val="1"/>
        <c:lblAlgn val="ctr"/>
        <c:lblOffset val="100"/>
        <c:noMultiLvlLbl val="0"/>
      </c:catAx>
      <c:valAx>
        <c:axId val="52424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4836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55846406826363"/>
          <c:y val="0.0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3"/>
          <c:w val="0.959957335229545"/>
          <c:h val="0.85612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7</c:v>
                </c:pt>
                <c:pt idx="2">
                  <c:v>19</c:v>
                </c:pt>
                <c:pt idx="3">
                  <c:v>2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7</c:v>
                </c:pt>
                <c:pt idx="8">
                  <c:v>0</c:v>
                </c:pt>
                <c:pt idx="9">
                  <c:v>2</c:v>
                </c:pt>
                <c:pt idx="10">
                  <c:v>1</c:v>
                </c:pt>
                <c:pt idx="11">
                  <c:v>0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9795918367347</c:v>
                </c:pt>
                <c:pt idx="1">
                  <c:v>3.87755102040816</c:v>
                </c:pt>
                <c:pt idx="2">
                  <c:v>10.8163265306122</c:v>
                </c:pt>
                <c:pt idx="3">
                  <c:v>10</c:v>
                </c:pt>
                <c:pt idx="4">
                  <c:v>4.89795918367347</c:v>
                </c:pt>
                <c:pt idx="5">
                  <c:v>4.89795918367347</c:v>
                </c:pt>
                <c:pt idx="6">
                  <c:v>2.04081632653061</c:v>
                </c:pt>
                <c:pt idx="7">
                  <c:v>4.48979591836735</c:v>
                </c:pt>
                <c:pt idx="8">
                  <c:v>0.408163265306122</c:v>
                </c:pt>
                <c:pt idx="9">
                  <c:v>0.408163265306122</c:v>
                </c:pt>
                <c:pt idx="10">
                  <c:v>0.612244897959184</c:v>
                </c:pt>
                <c:pt idx="11">
                  <c:v>0.408163265306122</c:v>
                </c:pt>
                <c:pt idx="12">
                  <c:v>0.204081632653061</c:v>
                </c:pt>
                <c:pt idx="13">
                  <c:v>0.204081632653061</c:v>
                </c:pt>
                <c:pt idx="14">
                  <c:v>0.816326530612245</c:v>
                </c:pt>
                <c:pt idx="15">
                  <c:v>1.02040816326531</c:v>
                </c:pt>
              </c:numCache>
            </c:numRef>
          </c:val>
        </c:ser>
        <c:gapWidth val="100"/>
        <c:overlap val="0"/>
        <c:axId val="11956478"/>
        <c:axId val="16482451"/>
      </c:barChart>
      <c:catAx>
        <c:axId val="119564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82451"/>
        <c:crossesAt val="0"/>
        <c:auto val="1"/>
        <c:lblAlgn val="ctr"/>
        <c:lblOffset val="100"/>
        <c:noMultiLvlLbl val="0"/>
      </c:catAx>
      <c:valAx>
        <c:axId val="16482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5647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425581085285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7</c:v>
                </c:pt>
                <c:pt idx="2">
                  <c:v>16</c:v>
                </c:pt>
                <c:pt idx="3">
                  <c:v>2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8</c:v>
                </c:pt>
                <c:pt idx="8">
                  <c:v>0</c:v>
                </c:pt>
                <c:pt idx="9">
                  <c:v>2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9795918367347</c:v>
                </c:pt>
                <c:pt idx="1">
                  <c:v>3.87755102040816</c:v>
                </c:pt>
                <c:pt idx="2">
                  <c:v>10.8163265306122</c:v>
                </c:pt>
                <c:pt idx="3">
                  <c:v>10</c:v>
                </c:pt>
                <c:pt idx="4">
                  <c:v>4.89795918367347</c:v>
                </c:pt>
                <c:pt idx="5">
                  <c:v>4.89795918367347</c:v>
                </c:pt>
                <c:pt idx="6">
                  <c:v>2.04081632653061</c:v>
                </c:pt>
                <c:pt idx="7">
                  <c:v>4.48979591836735</c:v>
                </c:pt>
                <c:pt idx="8">
                  <c:v>0.408163265306122</c:v>
                </c:pt>
                <c:pt idx="9">
                  <c:v>0.408163265306122</c:v>
                </c:pt>
                <c:pt idx="10">
                  <c:v>0.612244897959184</c:v>
                </c:pt>
                <c:pt idx="11">
                  <c:v>0.408163265306122</c:v>
                </c:pt>
                <c:pt idx="12">
                  <c:v>0.204081632653061</c:v>
                </c:pt>
                <c:pt idx="13">
                  <c:v>0.204081632653061</c:v>
                </c:pt>
                <c:pt idx="14">
                  <c:v>0.816326530612245</c:v>
                </c:pt>
                <c:pt idx="15">
                  <c:v>1.02040816326531</c:v>
                </c:pt>
              </c:numCache>
            </c:numRef>
          </c:val>
        </c:ser>
        <c:gapWidth val="100"/>
        <c:overlap val="0"/>
        <c:axId val="48971827"/>
        <c:axId val="31210624"/>
      </c:barChart>
      <c:catAx>
        <c:axId val="4897182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10624"/>
        <c:crossesAt val="0"/>
        <c:auto val="1"/>
        <c:lblAlgn val="ctr"/>
        <c:lblOffset val="100"/>
        <c:noMultiLvlLbl val="0"/>
      </c:catAx>
      <c:valAx>
        <c:axId val="31210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7182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470023554509"/>
          <c:y val="0.020369907523119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197700574856"/>
          <c:w val="0.959912892760322"/>
          <c:h val="0.7700574856285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0</c:v>
                </c:pt>
                <c:pt idx="2">
                  <c:v>8</c:v>
                </c:pt>
                <c:pt idx="3">
                  <c:v>0</c:v>
                </c:pt>
                <c:pt idx="4">
                  <c:v>8</c:v>
                </c:pt>
                <c:pt idx="5">
                  <c:v>0</c:v>
                </c:pt>
                <c:pt idx="6">
                  <c:v>4</c:v>
                </c:pt>
                <c:pt idx="7">
                  <c:v>3</c:v>
                </c:pt>
                <c:pt idx="8">
                  <c:v>0</c:v>
                </c:pt>
                <c:pt idx="9">
                  <c:v>1</c:v>
                </c:pt>
                <c:pt idx="10">
                  <c:v>3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70204081632653</c:v>
                </c:pt>
                <c:pt idx="1">
                  <c:v>3.72244897959184</c:v>
                </c:pt>
                <c:pt idx="2">
                  <c:v>10.3836734693878</c:v>
                </c:pt>
                <c:pt idx="3">
                  <c:v>9.6</c:v>
                </c:pt>
                <c:pt idx="4">
                  <c:v>4.70204081632653</c:v>
                </c:pt>
                <c:pt idx="5">
                  <c:v>4.70204081632653</c:v>
                </c:pt>
                <c:pt idx="6">
                  <c:v>1.95918367346939</c:v>
                </c:pt>
                <c:pt idx="7">
                  <c:v>4.31020408163265</c:v>
                </c:pt>
                <c:pt idx="8">
                  <c:v>0.391836734693878</c:v>
                </c:pt>
                <c:pt idx="9">
                  <c:v>0.391836734693878</c:v>
                </c:pt>
                <c:pt idx="10">
                  <c:v>0.587755102040816</c:v>
                </c:pt>
                <c:pt idx="11">
                  <c:v>0.391836734693878</c:v>
                </c:pt>
                <c:pt idx="12">
                  <c:v>0.195918367346939</c:v>
                </c:pt>
                <c:pt idx="13">
                  <c:v>0.195918367346939</c:v>
                </c:pt>
                <c:pt idx="14">
                  <c:v>0.783673469387755</c:v>
                </c:pt>
                <c:pt idx="15">
                  <c:v>0.979591836734694</c:v>
                </c:pt>
              </c:numCache>
            </c:numRef>
          </c:val>
        </c:ser>
        <c:gapWidth val="100"/>
        <c:overlap val="0"/>
        <c:axId val="19020760"/>
        <c:axId val="5009775"/>
      </c:barChart>
      <c:catAx>
        <c:axId val="1902076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9775"/>
        <c:crossesAt val="0"/>
        <c:auto val="1"/>
        <c:lblAlgn val="ctr"/>
        <c:lblOffset val="100"/>
        <c:noMultiLvlLbl val="0"/>
      </c:catAx>
      <c:valAx>
        <c:axId val="5009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2076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514466023732"/>
          <c:y val="0.020130649246767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305425943208"/>
          <c:w val="0.959957335229545"/>
          <c:h val="0.76989734702039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8</c:v>
                </c:pt>
                <c:pt idx="1">
                  <c:v>10</c:v>
                </c:pt>
                <c:pt idx="2">
                  <c:v>13</c:v>
                </c:pt>
                <c:pt idx="3">
                  <c:v>4</c:v>
                </c:pt>
                <c:pt idx="4">
                  <c:v>1</c:v>
                </c:pt>
                <c:pt idx="5">
                  <c:v>0</c:v>
                </c:pt>
                <c:pt idx="6">
                  <c:v>1</c:v>
                </c:pt>
                <c:pt idx="7">
                  <c:v>2</c:v>
                </c:pt>
                <c:pt idx="8">
                  <c:v>2</c:v>
                </c:pt>
                <c:pt idx="9">
                  <c:v>3</c:v>
                </c:pt>
                <c:pt idx="10">
                  <c:v>3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99591836734694</c:v>
                </c:pt>
                <c:pt idx="1">
                  <c:v>3.95510204081633</c:v>
                </c:pt>
                <c:pt idx="2">
                  <c:v>11.0326530612245</c:v>
                </c:pt>
                <c:pt idx="3">
                  <c:v>10.2</c:v>
                </c:pt>
                <c:pt idx="4">
                  <c:v>4.99591836734694</c:v>
                </c:pt>
                <c:pt idx="5">
                  <c:v>4.99591836734694</c:v>
                </c:pt>
                <c:pt idx="6">
                  <c:v>2.08163265306122</c:v>
                </c:pt>
                <c:pt idx="7">
                  <c:v>4.57959183673469</c:v>
                </c:pt>
                <c:pt idx="8">
                  <c:v>0.416326530612245</c:v>
                </c:pt>
                <c:pt idx="9">
                  <c:v>0.416326530612245</c:v>
                </c:pt>
                <c:pt idx="10">
                  <c:v>0.624489795918367</c:v>
                </c:pt>
                <c:pt idx="11">
                  <c:v>0.416326530612245</c:v>
                </c:pt>
                <c:pt idx="12">
                  <c:v>0.208163265306122</c:v>
                </c:pt>
                <c:pt idx="13">
                  <c:v>0.208163265306122</c:v>
                </c:pt>
                <c:pt idx="14">
                  <c:v>0.83265306122449</c:v>
                </c:pt>
                <c:pt idx="15">
                  <c:v>1.04081632653061</c:v>
                </c:pt>
              </c:numCache>
            </c:numRef>
          </c:val>
        </c:ser>
        <c:gapWidth val="100"/>
        <c:overlap val="0"/>
        <c:axId val="27658420"/>
        <c:axId val="63989641"/>
      </c:barChart>
      <c:catAx>
        <c:axId val="2765842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89641"/>
        <c:crossesAt val="0"/>
        <c:auto val="1"/>
        <c:lblAlgn val="ctr"/>
        <c:lblOffset val="100"/>
        <c:noMultiLvlLbl val="0"/>
      </c:catAx>
      <c:valAx>
        <c:axId val="63989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5842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65490422647882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84626921635"/>
          <c:w val="0.959957335229545"/>
          <c:h val="0.856392950881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11</c:v>
                </c:pt>
                <c:pt idx="3">
                  <c:v>0</c:v>
                </c:pt>
                <c:pt idx="4">
                  <c:v>5</c:v>
                </c:pt>
                <c:pt idx="5">
                  <c:v>3</c:v>
                </c:pt>
                <c:pt idx="6">
                  <c:v>0</c:v>
                </c:pt>
                <c:pt idx="7">
                  <c:v>3</c:v>
                </c:pt>
                <c:pt idx="8">
                  <c:v>2</c:v>
                </c:pt>
                <c:pt idx="9">
                  <c:v>3</c:v>
                </c:pt>
                <c:pt idx="10">
                  <c:v>5</c:v>
                </c:pt>
                <c:pt idx="11">
                  <c:v>2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125</c:v>
                </c:pt>
                <c:pt idx="1">
                  <c:v>2.125</c:v>
                </c:pt>
                <c:pt idx="2">
                  <c:v>8.5</c:v>
                </c:pt>
                <c:pt idx="3">
                  <c:v>7.4375</c:v>
                </c:pt>
                <c:pt idx="4">
                  <c:v>5.3125</c:v>
                </c:pt>
                <c:pt idx="5">
                  <c:v>5.3125</c:v>
                </c:pt>
                <c:pt idx="6">
                  <c:v>5.3125</c:v>
                </c:pt>
                <c:pt idx="7">
                  <c:v>3.1875</c:v>
                </c:pt>
                <c:pt idx="8">
                  <c:v>2.125</c:v>
                </c:pt>
                <c:pt idx="9">
                  <c:v>2.921875</c:v>
                </c:pt>
                <c:pt idx="10">
                  <c:v>2.390625</c:v>
                </c:pt>
                <c:pt idx="11">
                  <c:v>2.125</c:v>
                </c:pt>
                <c:pt idx="12">
                  <c:v>1.0625</c:v>
                </c:pt>
                <c:pt idx="13">
                  <c:v>1.0625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1126785"/>
        <c:axId val="57564499"/>
      </c:barChart>
      <c:catAx>
        <c:axId val="6112678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64499"/>
        <c:crossesAt val="0"/>
        <c:auto val="1"/>
        <c:lblAlgn val="ctr"/>
        <c:lblOffset val="100"/>
        <c:noMultiLvlLbl val="0"/>
      </c:catAx>
      <c:valAx>
        <c:axId val="57564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2678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8DE3-92BC-4C87-933B-BBFD5507058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CF7A-8005-4A2B-B79B-E6C05E09770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33C-2329-463B-A767-A4503289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AF4-4FAC-43A3-9DAE-6AD3957B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A8F-E3C0-43F7-B417-0634C0C6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3CA-9BAF-4243-9A49-7BD57336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149-6CCC-4D41-A5BB-787B1249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9F1-231F-4EA5-8E5F-28DB9D0B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51C-59E7-4721-9989-2EDA4DB3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D8C-E114-4ECE-97C5-C45BD76C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E70-4257-490B-971F-A92B7162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D5B-3476-456B-AC42-D6A7017A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7AE-B75F-4E01-A83D-DF5E4788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B85-4275-4FA0-B010-BFCD7462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8F7D-F372-4F50-A46F-04834E5467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chart" Target="../charts/chart4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chart" Target="../charts/chart5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chart" Target="../charts/chart6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chart" Target="../charts/chart7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chart" Target="../charts/chart8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chart" Target="../charts/chart9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chart" Target="../charts/chart10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chart" Target="../charts/chart11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chart" Target="../charts/chart1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..\cronograma 2&#186; semeste\Cronograma - PNTE.doc" TargetMode="External"/><Relationship Id="rId2" Type="http://schemas.openxmlformats.org/officeDocument/2006/relationships/hyperlink" Target="..\..\Visitas bimestrais\visita bimestral - Luciana\cronograma 2&#186; semeste\Cronograma - PSTE.doc" TargetMode="External"/><Relationship Id="rId3" Type="http://schemas.openxmlformats.org/officeDocument/2006/relationships/hyperlink" Target="Cronograma - completo.doc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ronograma Ledo 06-08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chart" Target="../charts/chart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chart" Target="../charts/chart3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119664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JOAQUM G. LEDO IVINHEMA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450072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8"/>
          <p:cNvGraphicFramePr/>
          <p:nvPr/>
        </p:nvGraphicFramePr>
        <p:xfrm>
          <a:off x="900000" y="4508640"/>
          <a:ext cx="571680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4508640"/>
                    <a:ext cx="571680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324000" y="1844640"/>
          <a:ext cx="7307280" cy="2436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A TICY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ixaDeTexto 5"/>
          <p:cNvSpPr/>
          <p:nvPr/>
        </p:nvSpPr>
        <p:spPr>
          <a:xfrm>
            <a:off x="1571760" y="535788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Object 9"/>
          <p:cNvGraphicFramePr/>
          <p:nvPr/>
        </p:nvGraphicFramePr>
        <p:xfrm>
          <a:off x="1393920" y="4754520"/>
          <a:ext cx="5157720" cy="1308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3920" y="4754520"/>
                    <a:ext cx="51577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0"/>
          <p:cNvGraphicFramePr/>
          <p:nvPr/>
        </p:nvGraphicFramePr>
        <p:xfrm>
          <a:off x="324000" y="1844640"/>
          <a:ext cx="7307280" cy="2598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ixaDeTexto 5"/>
          <p:cNvSpPr/>
          <p:nvPr/>
        </p:nvSpPr>
        <p:spPr>
          <a:xfrm>
            <a:off x="2857680" y="5214960"/>
            <a:ext cx="3571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9"/>
          <p:cNvGraphicFramePr/>
          <p:nvPr/>
        </p:nvGraphicFramePr>
        <p:xfrm>
          <a:off x="395280" y="4724280"/>
          <a:ext cx="6016680" cy="1308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724280"/>
                    <a:ext cx="601668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0"/>
          <p:cNvGraphicFramePr/>
          <p:nvPr/>
        </p:nvGraphicFramePr>
        <p:xfrm>
          <a:off x="179280" y="1700280"/>
          <a:ext cx="7307280" cy="2598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ixaDeTexto 5"/>
          <p:cNvSpPr/>
          <p:nvPr/>
        </p:nvSpPr>
        <p:spPr>
          <a:xfrm>
            <a:off x="2428920" y="535788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9"/>
          <p:cNvGraphicFramePr/>
          <p:nvPr/>
        </p:nvGraphicFramePr>
        <p:xfrm>
          <a:off x="1258920" y="4724280"/>
          <a:ext cx="5105520" cy="129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4724280"/>
                    <a:ext cx="510552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0"/>
          <p:cNvGraphicFramePr/>
          <p:nvPr/>
        </p:nvGraphicFramePr>
        <p:xfrm>
          <a:off x="539640" y="1700280"/>
          <a:ext cx="7523280" cy="267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8"/>
          <p:cNvGraphicFramePr/>
          <p:nvPr/>
        </p:nvGraphicFramePr>
        <p:xfrm>
          <a:off x="684360" y="4797360"/>
          <a:ext cx="571644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797360"/>
                    <a:ext cx="57164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9"/>
          <p:cNvGraphicFramePr/>
          <p:nvPr/>
        </p:nvGraphicFramePr>
        <p:xfrm>
          <a:off x="250920" y="1484280"/>
          <a:ext cx="809928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85480" y="221436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 IL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ixaDeTexto 5"/>
          <p:cNvSpPr/>
          <p:nvPr/>
        </p:nvSpPr>
        <p:spPr>
          <a:xfrm>
            <a:off x="2643120" y="52862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9"/>
          <p:cNvGraphicFramePr/>
          <p:nvPr/>
        </p:nvGraphicFramePr>
        <p:xfrm>
          <a:off x="1116000" y="4869000"/>
          <a:ext cx="4889520" cy="1239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4869000"/>
                    <a:ext cx="4889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0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ixaDeTexto 5"/>
          <p:cNvSpPr/>
          <p:nvPr/>
        </p:nvSpPr>
        <p:spPr>
          <a:xfrm>
            <a:off x="3357720" y="535788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Object 9"/>
          <p:cNvGraphicFramePr/>
          <p:nvPr/>
        </p:nvGraphicFramePr>
        <p:xfrm>
          <a:off x="539640" y="4797360"/>
          <a:ext cx="5913720" cy="128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797360"/>
                    <a:ext cx="59137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"/>
          <p:cNvGraphicFramePr/>
          <p:nvPr/>
        </p:nvGraphicFramePr>
        <p:xfrm>
          <a:off x="250920" y="1413000"/>
          <a:ext cx="80992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ixaDeTexto 5"/>
          <p:cNvSpPr/>
          <p:nvPr/>
        </p:nvSpPr>
        <p:spPr>
          <a:xfrm>
            <a:off x="2286000" y="5357880"/>
            <a:ext cx="4286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9"/>
          <p:cNvGraphicFramePr/>
          <p:nvPr/>
        </p:nvGraphicFramePr>
        <p:xfrm>
          <a:off x="971640" y="4869000"/>
          <a:ext cx="5248080" cy="133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4869000"/>
                    <a:ext cx="524808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0"/>
          <p:cNvGraphicFramePr/>
          <p:nvPr/>
        </p:nvGraphicFramePr>
        <p:xfrm>
          <a:off x="250920" y="1557360"/>
          <a:ext cx="80992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Object 8"/>
          <p:cNvGraphicFramePr/>
          <p:nvPr/>
        </p:nvGraphicFramePr>
        <p:xfrm>
          <a:off x="611280" y="4670280"/>
          <a:ext cx="5645160" cy="1432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670280"/>
                    <a:ext cx="564516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9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Todas utiliza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Português, Geografia, História,  Ciênc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26,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73,8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Geografia e Literatu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Língua Portuguesa, Ed. Física, História, Artes, Ciências, Física e Biolog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11,6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88,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Todas Utiliza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Artes,  Língua Portuguesa, Ciências, Química, Física e Biolog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 24,0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 77,7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horas disponibilizará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9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lanejamento junto à coordenação e professores regente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 e junh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176364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,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70563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3"/>
          <p:cNvSpPr/>
          <p:nvPr/>
        </p:nvSpPr>
        <p:spPr>
          <a:xfrm>
            <a:off x="169236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A SIRL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428760" y="2138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5"/>
          <p:cNvSpPr/>
          <p:nvPr/>
        </p:nvSpPr>
        <p:spPr>
          <a:xfrm>
            <a:off x="7072200" y="528624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11"/>
          <p:cNvSpPr/>
          <p:nvPr/>
        </p:nvSpPr>
        <p:spPr>
          <a:xfrm>
            <a:off x="6429240" y="55720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7572240" y="5857920"/>
            <a:ext cx="12668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11"/>
          <p:cNvGraphicFramePr/>
          <p:nvPr/>
        </p:nvGraphicFramePr>
        <p:xfrm>
          <a:off x="1476360" y="4653000"/>
          <a:ext cx="571644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4653000"/>
                    <a:ext cx="57164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2"/>
          <p:cNvGraphicFramePr/>
          <p:nvPr/>
        </p:nvGraphicFramePr>
        <p:xfrm>
          <a:off x="539640" y="1620720"/>
          <a:ext cx="809964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6715080" y="521496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8"/>
          <p:cNvGraphicFramePr/>
          <p:nvPr/>
        </p:nvGraphicFramePr>
        <p:xfrm>
          <a:off x="324000" y="4651200"/>
          <a:ext cx="6345000" cy="13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651200"/>
                    <a:ext cx="6345000" cy="13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9"/>
          <p:cNvGraphicFramePr/>
          <p:nvPr/>
        </p:nvGraphicFramePr>
        <p:xfrm>
          <a:off x="509760" y="1619280"/>
          <a:ext cx="813096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ixaDeTexto 5"/>
          <p:cNvSpPr/>
          <p:nvPr/>
        </p:nvSpPr>
        <p:spPr>
          <a:xfrm>
            <a:off x="1071720" y="50720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9"/>
          <p:cNvGraphicFramePr/>
          <p:nvPr/>
        </p:nvGraphicFramePr>
        <p:xfrm>
          <a:off x="755640" y="4724280"/>
          <a:ext cx="571644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4724280"/>
                    <a:ext cx="57164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"/>
          <p:cNvGraphicFramePr/>
          <p:nvPr/>
        </p:nvGraphicFramePr>
        <p:xfrm>
          <a:off x="108000" y="1628640"/>
          <a:ext cx="809928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4:15:31Z</dcterms:created>
  <dc:creator>Luciana Catarino</dc:creator>
  <dc:description/>
  <dc:language>en-US</dc:language>
  <cp:lastModifiedBy>RONILVA</cp:lastModifiedBy>
  <dcterms:modified xsi:type="dcterms:W3CDTF">2009-08-06T18:33:54Z</dcterms:modified>
  <cp:revision>85</cp:revision>
  <dc:subject/>
  <dc:title>EE LUIZ SOARES ANDRADE  NOVA ANDRADINA - MS</dc:title>
</cp:coreProperties>
</file>